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233-C027-4B0A-B77E-1A1214B5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AF8-2CF5-4BBF-8844-F961C124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CF7-D3FF-4C32-A922-EF94C13D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10A-0C2F-45F8-92B8-473C693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9A1-B75C-4894-96CD-07EE38EB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639-E269-424E-8E69-30E05CE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567-34A3-4D96-8CE3-6EA24AA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BAA-9E2D-4EE8-9285-D2C9D711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FBF-13F1-4C9C-AB18-46C8C95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C12-B5DC-447F-8B79-D4E075F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F55-CC55-4394-A1A9-0E8D177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924-85BA-4978-9D35-40C2205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1443-6545-4466-886E-A6C38133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125360"/>
            <a:ext cx="5905440" cy="181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hysical Attraction (nat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Human Attraction (made by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3141720"/>
            <a:ext cx="59054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how your understanding of physical/human geography by deciding which factor influenced these holida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1928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autiful beaches, gorgeous weather and fantastic restaur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1928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like to stay in the North of the island. There are some wonderful walk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1928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m old like Mrs Weatherstone, I need a resort with stair lifts!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149720"/>
            <a:ext cx="2879640" cy="230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764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small children, we need to go to a resort that has lots of facilities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4764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Love partying - I love clubs and I love meeting new people - I’m mad for 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an ornithologist, Majorca has nesting pairs of the Lesser spotted Green Tipped Wag T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9280" y="260280"/>
            <a:ext cx="6624720" cy="2305080"/>
          </a:xfrm>
          <a:prstGeom prst="wedgeEllipseCallout">
            <a:avLst>
              <a:gd name="adj1" fmla="val -51486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a tan of course, why else would we come?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9640" y="407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3132000" y="479592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724360" y="5516640"/>
            <a:ext cx="273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877000"/>
            <a:ext cx="79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333360"/>
            <a:ext cx="7561440" cy="6237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133720"/>
            <a:ext cx="3816360" cy="2663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3141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09:34Z</dcterms:created>
  <dc:creator>Mike</dc:creator>
  <dc:description/>
  <dc:language>en-US</dc:language>
  <cp:lastModifiedBy>Rebecca Bairstow</cp:lastModifiedBy>
  <dcterms:modified xsi:type="dcterms:W3CDTF">2006-04-30T14:49:45Z</dcterms:modified>
  <cp:revision>12</cp:revision>
  <dc:subject/>
  <dc:title>Slide 1</dc:title>
</cp:coreProperties>
</file>